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304400" cy="95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253880" y="718920"/>
            <a:ext cx="4792680" cy="359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3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9107280"/>
            <a:ext cx="3164040" cy="479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4138200" y="9107280"/>
            <a:ext cx="3164040" cy="479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D15B955-5A33-48CB-B069-5053CFDB36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2680" cy="35938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3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86AD4-6F7B-4BD0-A419-4DEE93FEE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63C0-DE01-438D-B85A-CF7AEA1B6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CFC88-A5BF-48C8-9AD1-E14469B2E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E5DEB-3A39-49A8-96DA-B7DA57003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54F07-833E-4A46-B7FB-929162247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28E91-0BD6-4239-9F96-00B5B473F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F0868-1C8D-4DD5-9A4D-8CBA35D4C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8FBF-04A9-45C5-8D28-A484EC766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0A5AB-AE7D-4C84-8C82-8481D357B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3E595-4374-4CDC-AD83-30E4887FA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092F-1D3A-4D0A-943A-0229A2E48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64E7-8EDF-4CD8-83F4-63CE5B676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ai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8FFB-D23B-427D-A84B-37DC1D68DAF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88840" y="657216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VIDIA Propriet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33480" y="482328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88840" y="6572160"/>
            <a:ext cx="154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VIDIA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spcAft>
                <a:spcPts val="113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523880" y="4571640"/>
            <a:ext cx="64008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to Vertex Shaders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5334120"/>
            <a:ext cx="617220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hard Hud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hardH@nvidi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Flexible Input Sign and Mux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5800" y="1996920"/>
            <a:ext cx="7543800" cy="3870000"/>
            <a:chOff x="685800" y="1996920"/>
            <a:chExt cx="7543800" cy="3870000"/>
          </a:xfrm>
        </p:grpSpPr>
        <p:sp>
          <p:nvSpPr>
            <p:cNvPr id="147" name=""/>
            <p:cNvSpPr/>
            <p:nvPr/>
          </p:nvSpPr>
          <p:spPr>
            <a:xfrm>
              <a:off x="1735200" y="1996920"/>
              <a:ext cx="1218960" cy="40824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9080" y="1996920"/>
              <a:ext cx="1219320" cy="40824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82960" y="1996920"/>
              <a:ext cx="1219320" cy="40824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07200" y="1996920"/>
              <a:ext cx="1218960" cy="40824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35200" y="3597120"/>
              <a:ext cx="1388880" cy="40824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4080" y="3597120"/>
              <a:ext cx="1506600" cy="40824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30680" y="3597120"/>
              <a:ext cx="1541520" cy="40824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72200" y="3597120"/>
              <a:ext cx="1353960" cy="40824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344680" y="2454120"/>
              <a:ext cx="4572000" cy="289080"/>
              <a:chOff x="2344680" y="2454120"/>
              <a:chExt cx="4572000" cy="289080"/>
            </a:xfrm>
          </p:grpSpPr>
          <p:sp>
            <p:nvSpPr>
              <p:cNvPr id="156" name=""/>
              <p:cNvSpPr/>
              <p:nvPr/>
            </p:nvSpPr>
            <p:spPr>
              <a:xfrm>
                <a:off x="2344680" y="2454120"/>
                <a:ext cx="0" cy="28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868560" y="2454120"/>
                <a:ext cx="0" cy="28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392800" y="2454120"/>
                <a:ext cx="0" cy="28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916680" y="2454120"/>
                <a:ext cx="0" cy="28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344680" y="3292560"/>
              <a:ext cx="4572000" cy="288720"/>
              <a:chOff x="2344680" y="3292560"/>
              <a:chExt cx="4572000" cy="288720"/>
            </a:xfrm>
          </p:grpSpPr>
          <p:sp>
            <p:nvSpPr>
              <p:cNvPr id="161" name=""/>
              <p:cNvSpPr/>
              <p:nvPr/>
            </p:nvSpPr>
            <p:spPr>
              <a:xfrm>
                <a:off x="2344680" y="3292560"/>
                <a:ext cx="0" cy="28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868560" y="3292560"/>
                <a:ext cx="0" cy="28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92800" y="3292560"/>
                <a:ext cx="0" cy="28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916680" y="3292560"/>
                <a:ext cx="0" cy="28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1735200" y="2742840"/>
              <a:ext cx="5790960" cy="549360"/>
              <a:chOff x="1735200" y="2742840"/>
              <a:chExt cx="579096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1735200" y="2743200"/>
                <a:ext cx="5790960" cy="549000"/>
              </a:xfrm>
              <a:prstGeom prst="rect">
                <a:avLst/>
              </a:prstGeom>
              <a:solidFill>
                <a:srgbClr val="3d00a4"/>
              </a:solidFill>
              <a:ln w="19080">
                <a:solidFill>
                  <a:srgbClr val="ffd5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344680" y="2743200"/>
                <a:ext cx="0" cy="549000"/>
              </a:xfrm>
              <a:prstGeom prst="line">
                <a:avLst/>
              </a:prstGeom>
              <a:ln w="19080">
                <a:solidFill>
                  <a:srgbClr val="ffd5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68560" y="2743200"/>
                <a:ext cx="0" cy="549000"/>
              </a:xfrm>
              <a:prstGeom prst="line">
                <a:avLst/>
              </a:prstGeom>
              <a:ln w="19080">
                <a:solidFill>
                  <a:srgbClr val="ffd5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392800" y="2743200"/>
                <a:ext cx="0" cy="549000"/>
              </a:xfrm>
              <a:prstGeom prst="line">
                <a:avLst/>
              </a:prstGeom>
              <a:ln w="19080">
                <a:solidFill>
                  <a:srgbClr val="ffd5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916680" y="2743200"/>
                <a:ext cx="0" cy="549000"/>
              </a:xfrm>
              <a:prstGeom prst="line">
                <a:avLst/>
              </a:prstGeom>
              <a:ln w="19080">
                <a:solidFill>
                  <a:srgbClr val="ffd5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2344320" y="2743200"/>
                <a:ext cx="1523880" cy="549000"/>
              </a:xfrm>
              <a:prstGeom prst="line">
                <a:avLst/>
              </a:prstGeom>
              <a:ln w="19080">
                <a:solidFill>
                  <a:srgbClr val="ffd5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3868560" y="2743200"/>
                <a:ext cx="1524240" cy="549000"/>
              </a:xfrm>
              <a:prstGeom prst="line">
                <a:avLst/>
              </a:prstGeom>
              <a:ln w="19080">
                <a:solidFill>
                  <a:srgbClr val="ffd5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5392440" y="2743200"/>
                <a:ext cx="1523880" cy="549000"/>
              </a:xfrm>
              <a:prstGeom prst="line">
                <a:avLst/>
              </a:prstGeom>
              <a:ln w="19080">
                <a:solidFill>
                  <a:srgbClr val="ffd5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44680" y="2743200"/>
                <a:ext cx="1523880" cy="549000"/>
              </a:xfrm>
              <a:prstGeom prst="line">
                <a:avLst/>
              </a:prstGeom>
              <a:ln w="19080">
                <a:solidFill>
                  <a:srgbClr val="ffd5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868560" y="2743200"/>
                <a:ext cx="1524240" cy="549000"/>
              </a:xfrm>
              <a:prstGeom prst="line">
                <a:avLst/>
              </a:prstGeom>
              <a:ln w="19080">
                <a:solidFill>
                  <a:srgbClr val="ffd5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92800" y="2743200"/>
                <a:ext cx="1523880" cy="549000"/>
              </a:xfrm>
              <a:prstGeom prst="line">
                <a:avLst/>
              </a:prstGeom>
              <a:ln w="19080">
                <a:solidFill>
                  <a:srgbClr val="ffd5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2344680" y="2742840"/>
                <a:ext cx="3048120" cy="549000"/>
              </a:xfrm>
              <a:prstGeom prst="line">
                <a:avLst/>
              </a:prstGeom>
              <a:ln w="19080">
                <a:solidFill>
                  <a:srgbClr val="ffd5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3868560" y="2742840"/>
                <a:ext cx="3048120" cy="549000"/>
              </a:xfrm>
              <a:prstGeom prst="line">
                <a:avLst/>
              </a:prstGeom>
              <a:ln w="19080">
                <a:solidFill>
                  <a:srgbClr val="ffd5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344680" y="2743200"/>
                <a:ext cx="3048120" cy="549000"/>
              </a:xfrm>
              <a:prstGeom prst="line">
                <a:avLst/>
              </a:prstGeom>
              <a:ln w="19080">
                <a:solidFill>
                  <a:srgbClr val="ffd5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868560" y="2743200"/>
                <a:ext cx="3048120" cy="549000"/>
              </a:xfrm>
              <a:prstGeom prst="line">
                <a:avLst/>
              </a:prstGeom>
              <a:ln w="19080">
                <a:solidFill>
                  <a:srgbClr val="ffd5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2344680" y="2742840"/>
                <a:ext cx="4572000" cy="549000"/>
              </a:xfrm>
              <a:prstGeom prst="line">
                <a:avLst/>
              </a:prstGeom>
              <a:ln w="19080">
                <a:solidFill>
                  <a:srgbClr val="ffd5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344680" y="2743200"/>
                <a:ext cx="4572000" cy="549000"/>
              </a:xfrm>
              <a:prstGeom prst="line">
                <a:avLst/>
              </a:prstGeom>
              <a:ln w="19080">
                <a:solidFill>
                  <a:srgbClr val="ffd5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990720" y="4191120"/>
              <a:ext cx="7238880" cy="1675800"/>
              <a:chOff x="990720" y="4191120"/>
              <a:chExt cx="7238880" cy="167580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990720" y="4647960"/>
                <a:ext cx="3047760" cy="1218960"/>
                <a:chOff x="990720" y="4647960"/>
                <a:chExt cx="3047760" cy="1218960"/>
              </a:xfrm>
            </p:grpSpPr>
            <p:grpSp>
              <p:nvGrpSpPr>
                <p:cNvPr id="185" name=""/>
                <p:cNvGrpSpPr/>
                <p:nvPr/>
              </p:nvGrpSpPr>
              <p:grpSpPr>
                <a:xfrm>
                  <a:off x="1311480" y="5434200"/>
                  <a:ext cx="2405880" cy="174960"/>
                  <a:chOff x="1311480" y="5434200"/>
                  <a:chExt cx="2405880" cy="1749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1311480" y="5434200"/>
                    <a:ext cx="0" cy="174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2113200" y="5434200"/>
                    <a:ext cx="0" cy="174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915280" y="5434200"/>
                    <a:ext cx="0" cy="174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3717360" y="5434200"/>
                    <a:ext cx="0" cy="174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990720" y="4647960"/>
                  <a:ext cx="641520" cy="2476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990720" y="5619240"/>
                  <a:ext cx="641520" cy="2476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792440" y="5619240"/>
                  <a:ext cx="641520" cy="2476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594880" y="5619240"/>
                  <a:ext cx="641520" cy="2476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Z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396600" y="5619240"/>
                  <a:ext cx="641520" cy="2476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990720" y="5110200"/>
                  <a:ext cx="3047760" cy="333360"/>
                </a:xfrm>
                <a:prstGeom prst="rect">
                  <a:avLst/>
                </a:prstGeom>
                <a:solidFill>
                  <a:srgbClr val="3d00a4"/>
                </a:solidFill>
                <a:ln w="19080">
                  <a:solidFill>
                    <a:srgbClr val="ffd5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311480" y="5110200"/>
                  <a:ext cx="0" cy="333360"/>
                </a:xfrm>
                <a:prstGeom prst="line">
                  <a:avLst/>
                </a:prstGeom>
                <a:ln w="19080">
                  <a:solidFill>
                    <a:srgbClr val="ffd5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311480" y="5110200"/>
                  <a:ext cx="802080" cy="333360"/>
                </a:xfrm>
                <a:prstGeom prst="line">
                  <a:avLst/>
                </a:prstGeom>
                <a:ln w="19080">
                  <a:solidFill>
                    <a:srgbClr val="ffd5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311480" y="5110200"/>
                  <a:ext cx="1604160" cy="333360"/>
                </a:xfrm>
                <a:prstGeom prst="line">
                  <a:avLst/>
                </a:prstGeom>
                <a:ln w="19080">
                  <a:solidFill>
                    <a:srgbClr val="ffd5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311480" y="5110200"/>
                  <a:ext cx="2405880" cy="333360"/>
                </a:xfrm>
                <a:prstGeom prst="line">
                  <a:avLst/>
                </a:prstGeom>
                <a:ln w="19080">
                  <a:solidFill>
                    <a:srgbClr val="ffd5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311480" y="4925160"/>
                  <a:ext cx="0" cy="175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992520" y="4191120"/>
                <a:ext cx="99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Vxxx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5502240" y="5433840"/>
                <a:ext cx="2406600" cy="175680"/>
                <a:chOff x="5502240" y="5433840"/>
                <a:chExt cx="2406600" cy="1756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502240" y="5433840"/>
                  <a:ext cx="0" cy="175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304320" y="5433840"/>
                  <a:ext cx="0" cy="175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106760" y="5433840"/>
                  <a:ext cx="0" cy="175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908840" y="5433840"/>
                  <a:ext cx="0" cy="175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5181480" y="4647960"/>
                <a:ext cx="641520" cy="247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181480" y="5619600"/>
                <a:ext cx="641520" cy="247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983200" y="5619600"/>
                <a:ext cx="641520" cy="247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786720" y="5619600"/>
                <a:ext cx="641160" cy="247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588080" y="5619600"/>
                <a:ext cx="641520" cy="247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181480" y="5109840"/>
                <a:ext cx="3048120" cy="333000"/>
              </a:xfrm>
              <a:prstGeom prst="rect">
                <a:avLst/>
              </a:prstGeom>
              <a:solidFill>
                <a:srgbClr val="3d00a4"/>
              </a:solidFill>
              <a:ln w="19080">
                <a:solidFill>
                  <a:srgbClr val="ffd5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502240" y="5109840"/>
                <a:ext cx="801720" cy="333000"/>
              </a:xfrm>
              <a:prstGeom prst="line">
                <a:avLst/>
              </a:prstGeom>
              <a:ln w="19080">
                <a:solidFill>
                  <a:srgbClr val="ffd5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502240" y="4925880"/>
                <a:ext cx="0" cy="17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166720" y="4191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Vzxy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99320" y="4647960"/>
                <a:ext cx="641160" cy="247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037200" y="4647960"/>
                <a:ext cx="641520" cy="247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561440" y="4647960"/>
                <a:ext cx="641160" cy="247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5504040" y="5104800"/>
                <a:ext cx="1600200" cy="323640"/>
              </a:xfrm>
              <a:prstGeom prst="line">
                <a:avLst/>
              </a:prstGeom>
              <a:ln w="19080">
                <a:solidFill>
                  <a:srgbClr val="ffd5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342120" y="5105160"/>
                <a:ext cx="762120" cy="323640"/>
              </a:xfrm>
              <a:prstGeom prst="line">
                <a:avLst/>
              </a:prstGeom>
              <a:ln w="19080">
                <a:solidFill>
                  <a:srgbClr val="ffd5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910640" y="5124240"/>
                <a:ext cx="0" cy="304560"/>
              </a:xfrm>
              <a:prstGeom prst="line">
                <a:avLst/>
              </a:prstGeom>
              <a:ln w="19080">
                <a:solidFill>
                  <a:srgbClr val="ffd5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685800" y="3505320"/>
              <a:ext cx="838080" cy="533160"/>
            </a:xfrm>
            <a:prstGeom prst="rect">
              <a:avLst/>
            </a:prstGeom>
            <a:solidFill>
              <a:srgbClr val="3d00a4"/>
            </a:solidFill>
            <a:ln w="19080">
              <a:solidFill>
                <a:srgbClr val="ffd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d501"/>
                  </a:solidFill>
                  <a:latin typeface="Arial"/>
                </a:rPr>
                <a:t>[-1</a:t>
              </a:r>
              <a:r>
                <a:rPr b="0" lang="en-US" sz="3600" spc="-1" strike="noStrike">
                  <a:solidFill>
                    <a:srgbClr val="ffd501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ffd501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wizzle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1828800"/>
            <a:ext cx="777240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 registers can be swizzl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OV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1, R2.yzw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44560" y="3657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3657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90720" y="4267080"/>
            <a:ext cx="3124080" cy="1830240"/>
            <a:chOff x="990720" y="4267080"/>
            <a:chExt cx="3124080" cy="1830240"/>
          </a:xfrm>
        </p:grpSpPr>
        <p:grpSp>
          <p:nvGrpSpPr>
            <p:cNvPr id="229" name=""/>
            <p:cNvGrpSpPr/>
            <p:nvPr/>
          </p:nvGrpSpPr>
          <p:grpSpPr>
            <a:xfrm>
              <a:off x="990720" y="4267080"/>
              <a:ext cx="1218600" cy="1830240"/>
              <a:chOff x="990720" y="4267080"/>
              <a:chExt cx="1218600" cy="183024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990720" y="4267080"/>
                <a:ext cx="1218600" cy="1828800"/>
                <a:chOff x="990720" y="4267080"/>
                <a:chExt cx="1218600" cy="18288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1058760" y="4647960"/>
                  <a:ext cx="541080" cy="14479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066680" y="5371920"/>
                  <a:ext cx="533160" cy="0"/>
                </a:xfrm>
                <a:prstGeom prst="line">
                  <a:avLst/>
                </a:prstGeom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066680" y="5029200"/>
                  <a:ext cx="533160" cy="0"/>
                </a:xfrm>
                <a:prstGeom prst="line">
                  <a:avLst/>
                </a:prstGeom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066680" y="5730840"/>
                  <a:ext cx="533160" cy="0"/>
                </a:xfrm>
                <a:prstGeom prst="line">
                  <a:avLst/>
                </a:prstGeom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990720" y="4267080"/>
                  <a:ext cx="53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R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676160" y="4647960"/>
                  <a:ext cx="53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676160" y="4967280"/>
                  <a:ext cx="53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676160" y="5348160"/>
                  <a:ext cx="53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z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676160" y="5715000"/>
                  <a:ext cx="53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054080" y="4648320"/>
                <a:ext cx="545760" cy="1449000"/>
                <a:chOff x="1054080" y="4648320"/>
                <a:chExt cx="545760" cy="14490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1054080" y="4648320"/>
                  <a:ext cx="545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0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054080" y="5021280"/>
                  <a:ext cx="545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0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054080" y="5356080"/>
                  <a:ext cx="545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0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054080" y="5729040"/>
                  <a:ext cx="545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0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5" name=""/>
            <p:cNvGrpSpPr/>
            <p:nvPr/>
          </p:nvGrpSpPr>
          <p:grpSpPr>
            <a:xfrm>
              <a:off x="2895480" y="4267080"/>
              <a:ext cx="1219320" cy="1830240"/>
              <a:chOff x="2895480" y="4267080"/>
              <a:chExt cx="1219320" cy="18302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2895480" y="4267080"/>
                <a:ext cx="1219320" cy="1828800"/>
                <a:chOff x="2895480" y="4267080"/>
                <a:chExt cx="1219320" cy="18288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2963880" y="4647960"/>
                  <a:ext cx="541440" cy="14479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971800" y="5371920"/>
                  <a:ext cx="533520" cy="0"/>
                </a:xfrm>
                <a:prstGeom prst="line">
                  <a:avLst/>
                </a:prstGeom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971800" y="5029200"/>
                  <a:ext cx="533520" cy="0"/>
                </a:xfrm>
                <a:prstGeom prst="line">
                  <a:avLst/>
                </a:prstGeom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971800" y="5730840"/>
                  <a:ext cx="533520" cy="0"/>
                </a:xfrm>
                <a:prstGeom prst="line">
                  <a:avLst/>
                </a:prstGeom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895480" y="426708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R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581280" y="464796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581280" y="496728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581280" y="534816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z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581280" y="571500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2951280" y="4648320"/>
                <a:ext cx="561600" cy="1449000"/>
                <a:chOff x="2951280" y="4648320"/>
                <a:chExt cx="561600" cy="1449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2951280" y="4648320"/>
                  <a:ext cx="56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7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951280" y="5021280"/>
                  <a:ext cx="56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3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951280" y="5356080"/>
                  <a:ext cx="56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6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951280" y="5729040"/>
                  <a:ext cx="56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2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1" name=""/>
          <p:cNvGrpSpPr/>
          <p:nvPr/>
        </p:nvGrpSpPr>
        <p:grpSpPr>
          <a:xfrm>
            <a:off x="5105520" y="4267080"/>
            <a:ext cx="3124080" cy="1830240"/>
            <a:chOff x="5105520" y="4267080"/>
            <a:chExt cx="3124080" cy="1830240"/>
          </a:xfrm>
        </p:grpSpPr>
        <p:grpSp>
          <p:nvGrpSpPr>
            <p:cNvPr id="262" name=""/>
            <p:cNvGrpSpPr/>
            <p:nvPr/>
          </p:nvGrpSpPr>
          <p:grpSpPr>
            <a:xfrm>
              <a:off x="5105520" y="4267080"/>
              <a:ext cx="1218960" cy="1830240"/>
              <a:chOff x="5105520" y="4267080"/>
              <a:chExt cx="1218960" cy="183024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5105520" y="4267080"/>
                <a:ext cx="1218960" cy="1828800"/>
                <a:chOff x="5105520" y="4267080"/>
                <a:chExt cx="1218960" cy="182880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173560" y="4648320"/>
                  <a:ext cx="541440" cy="144756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181480" y="5372280"/>
                  <a:ext cx="533520" cy="0"/>
                </a:xfrm>
                <a:prstGeom prst="line">
                  <a:avLst/>
                </a:prstGeom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181480" y="5029200"/>
                  <a:ext cx="533520" cy="0"/>
                </a:xfrm>
                <a:prstGeom prst="line">
                  <a:avLst/>
                </a:prstGeom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181480" y="5730840"/>
                  <a:ext cx="533520" cy="0"/>
                </a:xfrm>
                <a:prstGeom prst="line">
                  <a:avLst/>
                </a:prstGeom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105520" y="4267080"/>
                  <a:ext cx="53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R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791320" y="4648320"/>
                  <a:ext cx="53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791320" y="4967280"/>
                  <a:ext cx="53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791320" y="5348160"/>
                  <a:ext cx="53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z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791320" y="5715000"/>
                  <a:ext cx="53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5108400" y="4648320"/>
                <a:ext cx="682200" cy="1449000"/>
                <a:chOff x="5108400" y="4648320"/>
                <a:chExt cx="682200" cy="14490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108400" y="4648320"/>
                  <a:ext cx="682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Arial"/>
                    </a:rPr>
                    <a:t>3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108400" y="5021280"/>
                  <a:ext cx="682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Arial"/>
                    </a:rPr>
                    <a:t>6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108400" y="5356080"/>
                  <a:ext cx="682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Arial"/>
                    </a:rPr>
                    <a:t>2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108400" y="5729040"/>
                  <a:ext cx="682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Arial"/>
                    </a:rPr>
                    <a:t>7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8" name=""/>
            <p:cNvGrpSpPr/>
            <p:nvPr/>
          </p:nvGrpSpPr>
          <p:grpSpPr>
            <a:xfrm>
              <a:off x="7010280" y="4267080"/>
              <a:ext cx="1219320" cy="1830240"/>
              <a:chOff x="7010280" y="4267080"/>
              <a:chExt cx="1219320" cy="183024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7010280" y="4267080"/>
                <a:ext cx="1219320" cy="1828800"/>
                <a:chOff x="7010280" y="4267080"/>
                <a:chExt cx="1219320" cy="182880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7078680" y="4647960"/>
                  <a:ext cx="541440" cy="14479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086600" y="5371920"/>
                  <a:ext cx="533520" cy="0"/>
                </a:xfrm>
                <a:prstGeom prst="line">
                  <a:avLst/>
                </a:prstGeom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086600" y="5029200"/>
                  <a:ext cx="533520" cy="0"/>
                </a:xfrm>
                <a:prstGeom prst="line">
                  <a:avLst/>
                </a:prstGeom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086600" y="5730840"/>
                  <a:ext cx="533520" cy="0"/>
                </a:xfrm>
                <a:prstGeom prst="line">
                  <a:avLst/>
                </a:prstGeom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010280" y="426708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R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696080" y="464796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696080" y="496728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696080" y="534816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z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696080" y="571500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7066080" y="4648320"/>
                <a:ext cx="561600" cy="1449000"/>
                <a:chOff x="7066080" y="4648320"/>
                <a:chExt cx="561600" cy="144900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7066080" y="4648320"/>
                  <a:ext cx="56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7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066080" y="5021280"/>
                  <a:ext cx="56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3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066080" y="5356080"/>
                  <a:ext cx="56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6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066080" y="5729040"/>
                  <a:ext cx="56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2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4" name=""/>
          <p:cNvSpPr/>
          <p:nvPr/>
        </p:nvSpPr>
        <p:spPr>
          <a:xfrm flipV="1">
            <a:off x="3886200" y="5181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886200" y="55627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886200" y="48006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86200" y="4876920"/>
            <a:ext cx="12193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Negation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1828800"/>
            <a:ext cx="777240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 registers can be negated (and swizzle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OV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1, -R2.yzz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44560" y="3657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91320" y="3657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990720" y="4267080"/>
            <a:ext cx="3124080" cy="1830240"/>
            <a:chOff x="990720" y="4267080"/>
            <a:chExt cx="3124080" cy="1830240"/>
          </a:xfrm>
        </p:grpSpPr>
        <p:grpSp>
          <p:nvGrpSpPr>
            <p:cNvPr id="304" name=""/>
            <p:cNvGrpSpPr/>
            <p:nvPr/>
          </p:nvGrpSpPr>
          <p:grpSpPr>
            <a:xfrm>
              <a:off x="990720" y="4267080"/>
              <a:ext cx="1218600" cy="1830240"/>
              <a:chOff x="990720" y="4267080"/>
              <a:chExt cx="1218600" cy="183024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990720" y="4267080"/>
                <a:ext cx="1218600" cy="1828800"/>
                <a:chOff x="990720" y="4267080"/>
                <a:chExt cx="1218600" cy="182880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058760" y="4647960"/>
                  <a:ext cx="541080" cy="14479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066680" y="5371920"/>
                  <a:ext cx="533160" cy="0"/>
                </a:xfrm>
                <a:prstGeom prst="line">
                  <a:avLst/>
                </a:prstGeom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066680" y="5029200"/>
                  <a:ext cx="533160" cy="0"/>
                </a:xfrm>
                <a:prstGeom prst="line">
                  <a:avLst/>
                </a:prstGeom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066680" y="5730840"/>
                  <a:ext cx="533160" cy="0"/>
                </a:xfrm>
                <a:prstGeom prst="line">
                  <a:avLst/>
                </a:prstGeom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990720" y="4267080"/>
                  <a:ext cx="53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R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676160" y="4647960"/>
                  <a:ext cx="53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1676160" y="4967280"/>
                  <a:ext cx="53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1676160" y="5348160"/>
                  <a:ext cx="53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z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676160" y="5715000"/>
                  <a:ext cx="53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1054080" y="4648320"/>
                <a:ext cx="545760" cy="1449000"/>
                <a:chOff x="1054080" y="4648320"/>
                <a:chExt cx="545760" cy="14490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1054080" y="4648320"/>
                  <a:ext cx="545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0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054080" y="5021280"/>
                  <a:ext cx="545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0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054080" y="5356080"/>
                  <a:ext cx="545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0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054080" y="5729040"/>
                  <a:ext cx="545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0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0" name=""/>
            <p:cNvGrpSpPr/>
            <p:nvPr/>
          </p:nvGrpSpPr>
          <p:grpSpPr>
            <a:xfrm>
              <a:off x="2895480" y="4267080"/>
              <a:ext cx="1219320" cy="1830240"/>
              <a:chOff x="2895480" y="4267080"/>
              <a:chExt cx="1219320" cy="183024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2895480" y="4267080"/>
                <a:ext cx="1219320" cy="1828800"/>
                <a:chOff x="2895480" y="4267080"/>
                <a:chExt cx="1219320" cy="18288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963880" y="4647960"/>
                  <a:ext cx="541440" cy="14479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971800" y="5371920"/>
                  <a:ext cx="533520" cy="0"/>
                </a:xfrm>
                <a:prstGeom prst="line">
                  <a:avLst/>
                </a:prstGeom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971800" y="5029200"/>
                  <a:ext cx="533520" cy="0"/>
                </a:xfrm>
                <a:prstGeom prst="line">
                  <a:avLst/>
                </a:prstGeom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971800" y="5730840"/>
                  <a:ext cx="533520" cy="0"/>
                </a:xfrm>
                <a:prstGeom prst="line">
                  <a:avLst/>
                </a:prstGeom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895480" y="426708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R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581280" y="464796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581280" y="496728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581280" y="534816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z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581280" y="571500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2951280" y="4648320"/>
                <a:ext cx="561600" cy="1449000"/>
                <a:chOff x="2951280" y="4648320"/>
                <a:chExt cx="561600" cy="144900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2951280" y="4648320"/>
                  <a:ext cx="56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7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951280" y="5021280"/>
                  <a:ext cx="56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3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951280" y="5356080"/>
                  <a:ext cx="56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6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951280" y="5729040"/>
                  <a:ext cx="56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2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36" name=""/>
          <p:cNvGrpSpPr/>
          <p:nvPr/>
        </p:nvGrpSpPr>
        <p:grpSpPr>
          <a:xfrm>
            <a:off x="5105520" y="4267080"/>
            <a:ext cx="3124080" cy="1830240"/>
            <a:chOff x="5105520" y="4267080"/>
            <a:chExt cx="3124080" cy="1830240"/>
          </a:xfrm>
        </p:grpSpPr>
        <p:grpSp>
          <p:nvGrpSpPr>
            <p:cNvPr id="337" name=""/>
            <p:cNvGrpSpPr/>
            <p:nvPr/>
          </p:nvGrpSpPr>
          <p:grpSpPr>
            <a:xfrm>
              <a:off x="5105520" y="4267080"/>
              <a:ext cx="1218960" cy="1830240"/>
              <a:chOff x="5105520" y="4267080"/>
              <a:chExt cx="1218960" cy="183024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5105520" y="4267080"/>
                <a:ext cx="1218960" cy="1828800"/>
                <a:chOff x="5105520" y="4267080"/>
                <a:chExt cx="1218960" cy="182880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5173560" y="4648320"/>
                  <a:ext cx="541440" cy="144756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181480" y="5372280"/>
                  <a:ext cx="533520" cy="0"/>
                </a:xfrm>
                <a:prstGeom prst="line">
                  <a:avLst/>
                </a:prstGeom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181480" y="5029200"/>
                  <a:ext cx="533520" cy="0"/>
                </a:xfrm>
                <a:prstGeom prst="line">
                  <a:avLst/>
                </a:prstGeom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181480" y="5730840"/>
                  <a:ext cx="533520" cy="0"/>
                </a:xfrm>
                <a:prstGeom prst="line">
                  <a:avLst/>
                </a:prstGeom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105520" y="4267080"/>
                  <a:ext cx="53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R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791320" y="4648320"/>
                  <a:ext cx="53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791320" y="4967280"/>
                  <a:ext cx="53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791320" y="5348160"/>
                  <a:ext cx="53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z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791320" y="5715000"/>
                  <a:ext cx="53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108400" y="4648320"/>
                <a:ext cx="682200" cy="1449000"/>
                <a:chOff x="5108400" y="4648320"/>
                <a:chExt cx="682200" cy="144900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108400" y="4648320"/>
                  <a:ext cx="682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Arial"/>
                    </a:rPr>
                    <a:t>-3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108400" y="5021280"/>
                  <a:ext cx="682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Arial"/>
                    </a:rPr>
                    <a:t>-6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108400" y="5356080"/>
                  <a:ext cx="682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Arial"/>
                    </a:rPr>
                    <a:t>-6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108400" y="5729040"/>
                  <a:ext cx="682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Arial"/>
                    </a:rPr>
                    <a:t>-7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3" name=""/>
            <p:cNvGrpSpPr/>
            <p:nvPr/>
          </p:nvGrpSpPr>
          <p:grpSpPr>
            <a:xfrm>
              <a:off x="7010280" y="4267080"/>
              <a:ext cx="1219320" cy="1830240"/>
              <a:chOff x="7010280" y="4267080"/>
              <a:chExt cx="1219320" cy="183024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7010280" y="4267080"/>
                <a:ext cx="1219320" cy="1828800"/>
                <a:chOff x="7010280" y="4267080"/>
                <a:chExt cx="1219320" cy="182880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078680" y="4647960"/>
                  <a:ext cx="541440" cy="14479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086600" y="5371920"/>
                  <a:ext cx="533520" cy="0"/>
                </a:xfrm>
                <a:prstGeom prst="line">
                  <a:avLst/>
                </a:prstGeom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086600" y="5029200"/>
                  <a:ext cx="533520" cy="0"/>
                </a:xfrm>
                <a:prstGeom prst="line">
                  <a:avLst/>
                </a:prstGeom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086600" y="5730840"/>
                  <a:ext cx="533520" cy="0"/>
                </a:xfrm>
                <a:prstGeom prst="line">
                  <a:avLst/>
                </a:prstGeom>
                <a:ln cap="sq"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010280" y="426708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R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696080" y="464796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696080" y="496728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696080" y="534816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z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696080" y="571500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7066080" y="4648320"/>
                <a:ext cx="561600" cy="1449000"/>
                <a:chOff x="7066080" y="4648320"/>
                <a:chExt cx="561600" cy="14490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7066080" y="4648320"/>
                  <a:ext cx="56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7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066080" y="5021280"/>
                  <a:ext cx="56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3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066080" y="5356080"/>
                  <a:ext cx="56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6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066080" y="5729040"/>
                  <a:ext cx="56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cc"/>
                      </a:solidFill>
                      <a:latin typeface="Arial"/>
                    </a:rPr>
                    <a:t>2.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9" name=""/>
          <p:cNvSpPr/>
          <p:nvPr/>
        </p:nvSpPr>
        <p:spPr>
          <a:xfrm flipV="1">
            <a:off x="3886200" y="48769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886200" y="525744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4876920"/>
            <a:ext cx="12193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Mask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1828800"/>
            <a:ext cx="7848720" cy="48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ination register can mask which components are written 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ll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1.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only x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1.x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only x, w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 “Constant Area”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7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6 entries, each is a Vec4.  Typical us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data - 4 of Vec4’s are typically the matrix for the trans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ght characteristics, (position, attenuation etc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rrent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tex interpolation dat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cedural data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nly one constant per instruction (but you can use it several times if you wan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 mad r1, v0, C[95], C[95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90720" y="55627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this is how you acces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tan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Input Vertex Data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 Vec4’s from your own VertexBuffer(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vertex is completely flex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akly typed” – meaning it’s up to you to interpret it consistent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on, normal, texture coordinates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Vertex output data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well defined vert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CLIP(x,y,z,w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ffuse color (r,g,b,a)  -&gt;  0.0 to +1.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ular color (r,g,b,a)  -&gt; 0.0 to +1.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p to 4 Texture coordinates (each as s,t,r,q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for each physical hardware texture un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g (f,*,*,*)  -&gt; value used in fog equ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int size (p,*,*,*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s of shader clamped as requi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Instruction forma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ly of the for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pNam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t, [-]s1 [,[-]s2 [,[-]s3]] ;com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1, r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1, r2, r3, r4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tination ‘r’ can have a write-mas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urce ‘r’ can be swizzl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.g. mov r1.x, r2.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v r1, r2.zxy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676520" y="60199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’ and ‘]’ indicate optional mod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What are the instructions?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1981080" cy="33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spcAft>
                <a:spcPts val="201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o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spcAft>
                <a:spcPts val="201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o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spcAft>
                <a:spcPts val="201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u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spcAft>
                <a:spcPts val="201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a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spcAft>
                <a:spcPts val="201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spcAft>
                <a:spcPts val="201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sq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505320" y="1752480"/>
            <a:ext cx="1904760" cy="33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201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p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201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p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201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201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l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201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201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38680" y="1752480"/>
            <a:ext cx="1905120" cy="27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201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201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201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x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201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201"/>
              </a:spcAft>
              <a:buClr>
                <a:srgbClr val="3d00a4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nop, mov, mul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9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 noth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, s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ve (with conditional sign change, mask and swizzl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, src1, src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 dest to the product of src1 and src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4440" y="791280"/>
            <a:ext cx="823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What you guys have been asking for…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control of the transformation and lighting pipe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 vertex ligh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 skinning and ble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 tex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 texture matrix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 vertex operation of your cho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add, mad, rsq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, src1, src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 src1 to src2.  [And the optional negation creates subtraction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, src1, src2, src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ply src1 by src2 and add src3 - into ds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sq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, s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urce must have one subscript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t.x = dest.y = dest.z = dest.w = 1/sqrt(src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iprocal square root of src (much more useful than straight ‘square root’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p3, dp4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4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and 4 Component dot produ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p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, src1, src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t.x = dest.y = dest.z = dest.w =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src1.x * src2.x) +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src1.y * src2.y) +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src1.z * src2.z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dp4 does the same but includes ‘w’ in the compu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min, max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7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, src1, src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onent-wise min oper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, src1, src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onent-wise max oper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lt, sg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8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, src1, src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t = (src1 &lt; src2) ? 1 :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each component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, src1, src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st = (src1 &gt;= src2) ? 1 :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ch is equivalent to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st = (src1 &lt; src2) ? 0 : 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.e. the exact opposite of sl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each component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s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48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, src1, src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 distance vector. src1 vector is (NA,d*d,d*d,NA) and src2 is (NA,1/d,NA,1/d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st is set to (1,d,d*d,1/d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is what you want for standard attenuation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li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5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, s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s lighting coefficients from two dot products and a power. src i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rc.x = 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 (unit normal and light vector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rc.y = 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 (unit normal and halfangle vector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rc.z is unus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rc.w = power (in range +128 to –128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st set to  (1.0, src.x, L, 1.0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src.x &gt; 0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 = (MAX(src.y, 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se L =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67080" y="541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c.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expp, lo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, src.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t.x = 2 ** (int)src.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t.y = fractional part (src.w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t.z = 2 ** src.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t.w = 1.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, src.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t.x = exponent((int)src.w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t.y = mantissa(src.w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t.z = log2(src.w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t.w = 1.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rcp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cp dest, src.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urce must have just one subscript (x, y, z or w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t.x = dest.y = dest.z = dest.w =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/ src.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…  this is the other half of the puzzle for divi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divide by doing a ‘rcp’ and then a ‘mul’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Minimal code snippet…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6858000" cy="42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 CV_WORLDVIEWPROJ0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 CV_WORLDVIEWPROJ1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 CV_WORLDVIEWPROJ2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 CV_WORLDVIEWPROJ3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 CV_FIXED_COLOR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transform to clip sp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p4 oPos.x, v0, c[WORLDVIEWPROJ0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p4 oPos.y, v0, c[WORLDVIEWPROJ1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p4 oPos.z, v0, c[WORLDVIEWPROJ2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p4 oPos.w, v0, c[WORLDVIEWPROJ3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write out col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oD0, c[CV_FIXED_COLOR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1760" y="303840"/>
            <a:ext cx="82342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se instructions give you complete control over the T &amp; L hardwar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m to get more complex oper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S    = max s1, -s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ABS   = min s1, -s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FORM4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dp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IV    = rcp, mu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B    = add s1, -s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Q 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le d1, s1, s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ge d2, s1, s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ul d1, d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N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= SEQ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with add in place of mu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MP0 = max c[ZERO], s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MP1 = min c[ONE], s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53341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Enter the Vertex Shad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mbly language interface to the transformation and lighting eng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 set to perform all vertex Tn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 table to store data (matrices, light position, attenuation, et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ers to save intermediat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s an untransformed, unlit vert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s a transformed and lit vert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opportunity to look diffe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or DirectX 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ow do I branch?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29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branching, no early 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 and predictabil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 execution dependenc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ultiply by zero, and accumul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e ‘Two Sided Lighting’ slide for a classic example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wo sided lighting…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14400" y="1523880"/>
            <a:ext cx="7162920" cy="49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t face normal with eye vector (from eye to vert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p3 r1, R_FACE_NORMAL, R_EYE_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(front_facing ? 1 : 0) into R6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ge r6.x, r1.x, c[C_ZERO]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(front_facing ? 0 : 1) into R6.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t r6.y, r1.x, c[C_ZERO]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Get the intensity of the lighting for the front 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Dot normal with light direction in eye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p3 r5.x, R_NORMAL, c[C_LIGHT1_DIRECTION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p3 r5.y, -R_NORMAL, c[C_LIGHT1_DIRECTION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Put front and back colors into R7 and R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 r7, r5.x, c[C_FRONTCOLO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 r8, r5.y, c[C_BACKCOLO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Pick the right 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and add the front and back lighting calculation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 r7, r7, r6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d oD0, r8, r6.y, 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836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Efficient Instruction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8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4x4 XFORM (4 op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lighting (2 instructions per directiona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p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1, r2, C[Light_Vector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3, C[Light_Colour], r1, r4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, dst instructions for lighting calcul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mping some of the results (‘lit’ and some outputs have auto clamping to 0 or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lor value output:-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0, r4, r1, r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Plus:  Novel Effects…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regular trans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ke Fish-Eye le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l texture coordinate calcul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cted tex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letted skinning with 20 or more bone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w you can be much more efficient than with DX7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y morp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lending multiple mes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al Geometry Deform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A quick look at error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I can’t avoid API specifics here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’ll use a prefix to identify those par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3D:” or “GL: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09360" y="791280"/>
            <a:ext cx="785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Parse Problems I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sure your program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s out the hclip space position of the verte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3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[HPOS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s at most 128 native instru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3D: Watch out for macro expansion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s no syntax err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3D: Has a valid version header “vs.1.0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L: Has a valid version header “!!VP1.0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ress Register loads only to the x component of A0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3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 A0.x, R0.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L A0.x, R0.y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001000" cy="54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sure your program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L: Uses program parameter indices in range [0 - 95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3D: Uses constant indices in range [0 - 95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L: Uses vertex attribute indices in range [0 – 15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D3D names are v0-v1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instruction ha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than one unique vertex attribute register as sourc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0, v[NRML], v[POS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&lt;- fails to comp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than one unique program parameter (D3D: ‘constant’) register as sourc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0, c[1], c[0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&lt;- fails to comp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909720" y="791640"/>
            <a:ext cx="785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Parse Problem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75840" y="75960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GL: Vertex State Program Parse Problem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36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sure your program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s out at least one program parameter regis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s at most 128 instru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s the required header “!!VSP1.0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 instruction reads from more than one program parameter regis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c[0], c[1], c[1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c[0], c[1], c[2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F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s only vertex attribute v[0] (if it uses any…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GL: Error management</a:t>
            </a: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I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1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GetError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ALID_OP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ything we’ve met so far has occurred, or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gram Id is already being used by a program that has a different target, i.e. Vertex Program vs Vertex State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GetInteger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_PROGRAM_ERROR_POSITION_N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get the unsigned byte offset at which the last error occurred in the program st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lGetError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_OF_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empting to replace an existing program and getting this error means the original program is unaffec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3D: Error Managemen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8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3DXAssembleShader function call returns a pointer to a D3DXBUFFER, which contains error mess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view debug output, when you create the vertex/pixel sha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nvasm.exe will validate the shader for you and report validation proble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Assembly languag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36800"/>
            <a:ext cx="8229600" cy="303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ed, complete, very powerful SIMD instruction 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operations simultaneously (argb, xyz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ally loaded between primitive ca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sive support for vector and matrix operations (lighting, rotations, etc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ble of efficiently implementing the entire functionality of DX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ustom Substitute for Standard T&amp;L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99080" y="1992240"/>
            <a:ext cx="2114640" cy="3799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24280" y="1956960"/>
            <a:ext cx="15858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54864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6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502320" y="4648320"/>
            <a:ext cx="2114280" cy="488160"/>
            <a:chOff x="6502320" y="4648320"/>
            <a:chExt cx="2114280" cy="488160"/>
          </a:xfrm>
        </p:grpSpPr>
        <p:sp>
          <p:nvSpPr>
            <p:cNvPr id="101" name=""/>
            <p:cNvSpPr/>
            <p:nvPr/>
          </p:nvSpPr>
          <p:spPr>
            <a:xfrm>
              <a:off x="6502320" y="4869360"/>
              <a:ext cx="211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23160" y="4648320"/>
              <a:ext cx="127224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8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 floa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900520" y="1735200"/>
            <a:ext cx="2114280" cy="1182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200" y="3059280"/>
            <a:ext cx="2114640" cy="1680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00520" y="3213000"/>
            <a:ext cx="2114280" cy="1330560"/>
          </a:xfrm>
          <a:prstGeom prst="rect">
            <a:avLst/>
          </a:prstGeom>
          <a:solidFill>
            <a:srgbClr val="3d00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00520" y="4838760"/>
            <a:ext cx="2114280" cy="1257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59092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579132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441972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00520" y="1735200"/>
            <a:ext cx="15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ex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00520" y="4838760"/>
            <a:ext cx="19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ex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048120"/>
            <a:ext cx="15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00520" y="3213000"/>
            <a:ext cx="15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501"/>
                </a:solidFill>
                <a:latin typeface="Arial"/>
              </a:rPr>
              <a:t>Vert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d501"/>
                </a:solidFill>
                <a:latin typeface="Arial"/>
              </a:rPr>
              <a:t>Sh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005440" y="4232160"/>
            <a:ext cx="15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523960" y="4173480"/>
            <a:ext cx="376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613404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7480" y="454356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57480" y="291780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7480" y="144000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523960" y="3583080"/>
            <a:ext cx="376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13240" y="3268800"/>
            <a:ext cx="906480" cy="295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11560" y="3416400"/>
            <a:ext cx="301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19720" y="3416400"/>
            <a:ext cx="301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75000" y="42022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501"/>
                </a:solidFill>
                <a:latin typeface="Arial"/>
              </a:rPr>
              <a:t>128  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18040" y="3649680"/>
            <a:ext cx="15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24640" y="3213000"/>
            <a:ext cx="212760" cy="513000"/>
          </a:xfrm>
          <a:prstGeom prst="rect">
            <a:avLst/>
          </a:prstGeom>
          <a:solidFill>
            <a:srgbClr val="3d00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501"/>
                </a:solidFill>
                <a:latin typeface="Arial"/>
              </a:rPr>
              <a:t>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27880" y="3905280"/>
            <a:ext cx="212760" cy="512640"/>
          </a:xfrm>
          <a:prstGeom prst="rect">
            <a:avLst/>
          </a:prstGeom>
          <a:solidFill>
            <a:srgbClr val="3d00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501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06440" y="3733920"/>
            <a:ext cx="2114280" cy="488160"/>
            <a:chOff x="406440" y="3733920"/>
            <a:chExt cx="2114280" cy="488160"/>
          </a:xfrm>
        </p:grpSpPr>
        <p:sp>
          <p:nvSpPr>
            <p:cNvPr id="129" name=""/>
            <p:cNvSpPr/>
            <p:nvPr/>
          </p:nvSpPr>
          <p:spPr>
            <a:xfrm>
              <a:off x="406440" y="3954960"/>
              <a:ext cx="211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7280" y="3733920"/>
              <a:ext cx="127224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8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 floa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895480" y="2133720"/>
            <a:ext cx="2114280" cy="488160"/>
            <a:chOff x="2895480" y="2133720"/>
            <a:chExt cx="2114280" cy="488160"/>
          </a:xfrm>
        </p:grpSpPr>
        <p:sp>
          <p:nvSpPr>
            <p:cNvPr id="132" name=""/>
            <p:cNvSpPr/>
            <p:nvPr/>
          </p:nvSpPr>
          <p:spPr>
            <a:xfrm>
              <a:off x="2895480" y="2354760"/>
              <a:ext cx="211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16320" y="2133720"/>
              <a:ext cx="127224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8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 floa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908440" y="5257800"/>
            <a:ext cx="2113920" cy="488160"/>
            <a:chOff x="2908440" y="5257800"/>
            <a:chExt cx="2113920" cy="488160"/>
          </a:xfrm>
        </p:grpSpPr>
        <p:sp>
          <p:nvSpPr>
            <p:cNvPr id="135" name=""/>
            <p:cNvSpPr/>
            <p:nvPr/>
          </p:nvSpPr>
          <p:spPr>
            <a:xfrm>
              <a:off x="2908440" y="5478840"/>
              <a:ext cx="2113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29280" y="5257800"/>
              <a:ext cx="127188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8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 floa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What does it do?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ert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c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ing of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lors – true color, pseudo col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D coordinates - procedural geometry, blending, morphing, deform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ure coordinates – texgens, set up for pixel shaders, tangent space bumpmap setu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g – elevation based, volume bas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int siz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der program accepts one input vertex, generates one output vert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What doesn’t it do?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6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not perform polygon based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k face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wo sided lighting (more on this later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cclusion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’t write to other vert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not create vert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What is calculated?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 completely specified verte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tex position in HCLIP sp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, optionally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gen/texture matrix/texture coord out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ing/color out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nt 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n what happens?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3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ustum cl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ogenous div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port Map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 Face Cu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23:12:18Z</dcterms:created>
  <dc:creator>Richard Huddy</dc:creator>
  <dc:description/>
  <dc:language>en-US</dc:language>
  <cp:lastModifiedBy>Cem Cebenoyan</cp:lastModifiedBy>
  <dcterms:modified xsi:type="dcterms:W3CDTF">2000-11-10T02:38:02Z</dcterms:modified>
  <cp:revision>67</cp:revision>
  <dc:subject/>
  <dc:title>DX8 Vertex Shaders</dc:title>
</cp:coreProperties>
</file>